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202-24AB-49AA-9B52-008D0E94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29AC-8A3C-4FDF-BA4E-F2575CB6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BCC-261E-4911-B25A-78FC829C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6C2-1885-4D73-9959-8FE365F7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7A07-8B53-4928-89D6-8115247D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241-2A4D-43C5-B5FE-4E9D4565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769-9984-4D0F-8BB6-9415FE0E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14C-B688-4174-9A21-165452D8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B31-1DD8-4862-95D6-CD78DD2C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E7C-3777-4BAC-B4C0-F12B12C6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2E2-704D-4E32-AC7A-5E9D55F3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05E-FF0C-439E-AB38-23F7A521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BF15-0310-448F-89A9-625416976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206" r="0" b="28175"/>
          <a:stretch/>
        </p:blipFill>
        <p:spPr>
          <a:xfrm>
            <a:off x="612720" y="260280"/>
            <a:ext cx="8696520" cy="62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065240" y="765000"/>
            <a:ext cx="3421080" cy="3600000"/>
            <a:chOff x="1065240" y="765000"/>
            <a:chExt cx="3421080" cy="3600000"/>
          </a:xfrm>
        </p:grpSpPr>
        <p:grpSp>
          <p:nvGrpSpPr>
            <p:cNvPr id="43" name=""/>
            <p:cNvGrpSpPr/>
            <p:nvPr/>
          </p:nvGrpSpPr>
          <p:grpSpPr>
            <a:xfrm>
              <a:off x="1065240" y="765000"/>
              <a:ext cx="2878200" cy="3600000"/>
              <a:chOff x="1065240" y="765000"/>
              <a:chExt cx="2878200" cy="3600000"/>
            </a:xfrm>
          </p:grpSpPr>
          <p:sp>
            <p:nvSpPr>
              <p:cNvPr id="44" name=""/>
              <p:cNvSpPr/>
              <p:nvPr/>
            </p:nvSpPr>
            <p:spPr>
              <a:xfrm>
                <a:off x="2505240" y="76500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50524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50524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224520" y="1485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224520" y="220464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6524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6524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8452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78452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50524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224520" y="2925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6524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8452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84520" y="364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 rot="16200000">
              <a:off x="3137040" y="2293560"/>
              <a:ext cx="2158920" cy="539640"/>
            </a:xfrm>
            <a:custGeom>
              <a:avLst/>
              <a:gdLst>
                <a:gd name="textAreaLeft" fmla="*/ 474840 w 2158920"/>
                <a:gd name="textAreaRight" fmla="*/ 1684080 w 215892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6200000">
              <a:off x="3135960" y="85464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1840680" y="85464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5400000">
              <a:off x="1119960" y="373428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2415240" y="373428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4880" y="1989000"/>
            <a:ext cx="3421080" cy="3600000"/>
            <a:chOff x="5384880" y="1989000"/>
            <a:chExt cx="3421080" cy="3600000"/>
          </a:xfrm>
        </p:grpSpPr>
        <p:grpSp>
          <p:nvGrpSpPr>
            <p:cNvPr id="64" name=""/>
            <p:cNvGrpSpPr/>
            <p:nvPr/>
          </p:nvGrpSpPr>
          <p:grpSpPr>
            <a:xfrm>
              <a:off x="5384880" y="1989000"/>
              <a:ext cx="2878200" cy="3600000"/>
              <a:chOff x="5384880" y="1989000"/>
              <a:chExt cx="2878200" cy="3600000"/>
            </a:xfrm>
          </p:grpSpPr>
          <p:sp>
            <p:nvSpPr>
              <p:cNvPr id="65" name=""/>
              <p:cNvSpPr/>
              <p:nvPr/>
            </p:nvSpPr>
            <p:spPr>
              <a:xfrm>
                <a:off x="6824880" y="198900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82488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2488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544160" y="2709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544160" y="342864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38488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38488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10416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10416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82488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44160" y="4149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38488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10416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104160" y="486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 rot="16200000">
              <a:off x="7456680" y="3517560"/>
              <a:ext cx="2158920" cy="539640"/>
            </a:xfrm>
            <a:custGeom>
              <a:avLst/>
              <a:gdLst>
                <a:gd name="textAreaLeft" fmla="*/ 474840 w 2158920"/>
                <a:gd name="textAreaRight" fmla="*/ 1684080 w 215892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7455600" y="207864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5400000">
              <a:off x="6160320" y="207864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5400000">
              <a:off x="5439600" y="495828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6734880" y="495828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928880" y="1628640"/>
            <a:ext cx="4316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28880" y="3068640"/>
            <a:ext cx="4316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9600" y="3068640"/>
            <a:ext cx="4316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49600" y="907920"/>
            <a:ext cx="4316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8880" y="5229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Templates (1 of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065240" y="765000"/>
            <a:ext cx="3421080" cy="3600000"/>
            <a:chOff x="1065240" y="765000"/>
            <a:chExt cx="3421080" cy="3600000"/>
          </a:xfrm>
        </p:grpSpPr>
        <p:grpSp>
          <p:nvGrpSpPr>
            <p:cNvPr id="90" name=""/>
            <p:cNvGrpSpPr/>
            <p:nvPr/>
          </p:nvGrpSpPr>
          <p:grpSpPr>
            <a:xfrm>
              <a:off x="1065240" y="765000"/>
              <a:ext cx="2878200" cy="3600000"/>
              <a:chOff x="1065240" y="765000"/>
              <a:chExt cx="2878200" cy="3600000"/>
            </a:xfrm>
          </p:grpSpPr>
          <p:sp>
            <p:nvSpPr>
              <p:cNvPr id="91" name=""/>
              <p:cNvSpPr/>
              <p:nvPr/>
            </p:nvSpPr>
            <p:spPr>
              <a:xfrm>
                <a:off x="2505240" y="76500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50524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0524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224520" y="1485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224520" y="220464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6524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6524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78452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78452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0524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24520" y="2925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6524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8452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84520" y="364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 rot="16200000">
              <a:off x="3137040" y="2293560"/>
              <a:ext cx="2158920" cy="539640"/>
            </a:xfrm>
            <a:custGeom>
              <a:avLst/>
              <a:gdLst>
                <a:gd name="textAreaLeft" fmla="*/ 474840 w 2158920"/>
                <a:gd name="textAreaRight" fmla="*/ 1684080 w 215892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3135960" y="85464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1840680" y="85464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00000">
              <a:off x="1119960" y="373428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2415240" y="373428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84880" y="1989000"/>
            <a:ext cx="3421080" cy="3600000"/>
            <a:chOff x="5384880" y="1989000"/>
            <a:chExt cx="3421080" cy="3600000"/>
          </a:xfrm>
        </p:grpSpPr>
        <p:grpSp>
          <p:nvGrpSpPr>
            <p:cNvPr id="111" name=""/>
            <p:cNvGrpSpPr/>
            <p:nvPr/>
          </p:nvGrpSpPr>
          <p:grpSpPr>
            <a:xfrm>
              <a:off x="5384880" y="1989000"/>
              <a:ext cx="2878200" cy="3600000"/>
              <a:chOff x="5384880" y="1989000"/>
              <a:chExt cx="2878200" cy="360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6824880" y="198900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2488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2488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44160" y="2709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44160" y="342864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38488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8488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10416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10416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2488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4160" y="4149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8488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10416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04160" y="486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rot="16200000">
              <a:off x="7456680" y="3517560"/>
              <a:ext cx="2158920" cy="539640"/>
            </a:xfrm>
            <a:custGeom>
              <a:avLst/>
              <a:gdLst>
                <a:gd name="textAreaLeft" fmla="*/ 474840 w 2158920"/>
                <a:gd name="textAreaRight" fmla="*/ 1684080 w 215892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7455600" y="207864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6160320" y="207864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5439600" y="495828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6734880" y="495828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928880" y="3068640"/>
            <a:ext cx="4316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49600" y="3068640"/>
            <a:ext cx="4316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49600" y="1628640"/>
            <a:ext cx="4316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28880" y="1628640"/>
            <a:ext cx="4316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49600" y="907920"/>
            <a:ext cx="4316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69240" y="2133720"/>
            <a:ext cx="4316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880" y="5229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Templates (2 of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065240" y="765000"/>
            <a:ext cx="3421080" cy="3600000"/>
            <a:chOff x="1065240" y="765000"/>
            <a:chExt cx="3421080" cy="3600000"/>
          </a:xfrm>
        </p:grpSpPr>
        <p:grpSp>
          <p:nvGrpSpPr>
            <p:cNvPr id="139" name=""/>
            <p:cNvGrpSpPr/>
            <p:nvPr/>
          </p:nvGrpSpPr>
          <p:grpSpPr>
            <a:xfrm>
              <a:off x="1065240" y="765000"/>
              <a:ext cx="2878200" cy="3600000"/>
              <a:chOff x="1065240" y="765000"/>
              <a:chExt cx="2878200" cy="3600000"/>
            </a:xfrm>
          </p:grpSpPr>
          <p:sp>
            <p:nvSpPr>
              <p:cNvPr id="140" name=""/>
              <p:cNvSpPr/>
              <p:nvPr/>
            </p:nvSpPr>
            <p:spPr>
              <a:xfrm>
                <a:off x="2505240" y="76500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0524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50524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24520" y="1485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24520" y="220464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6524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6524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78452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8452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0524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24520" y="2925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06524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78452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84520" y="364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rot="16200000">
              <a:off x="3137040" y="2293560"/>
              <a:ext cx="2158920" cy="539640"/>
            </a:xfrm>
            <a:custGeom>
              <a:avLst/>
              <a:gdLst>
                <a:gd name="textAreaLeft" fmla="*/ 474840 w 2158920"/>
                <a:gd name="textAreaRight" fmla="*/ 1684080 w 215892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3135960" y="85464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1840680" y="85464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1119960" y="373428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2415240" y="373428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384880" y="1989000"/>
            <a:ext cx="3421080" cy="3600000"/>
            <a:chOff x="5384880" y="1989000"/>
            <a:chExt cx="3421080" cy="3600000"/>
          </a:xfrm>
        </p:grpSpPr>
        <p:grpSp>
          <p:nvGrpSpPr>
            <p:cNvPr id="160" name=""/>
            <p:cNvGrpSpPr/>
            <p:nvPr/>
          </p:nvGrpSpPr>
          <p:grpSpPr>
            <a:xfrm>
              <a:off x="5384880" y="1989000"/>
              <a:ext cx="2878200" cy="3600000"/>
              <a:chOff x="5384880" y="1989000"/>
              <a:chExt cx="2878200" cy="3600000"/>
            </a:xfrm>
          </p:grpSpPr>
          <p:sp>
            <p:nvSpPr>
              <p:cNvPr id="161" name=""/>
              <p:cNvSpPr/>
              <p:nvPr/>
            </p:nvSpPr>
            <p:spPr>
              <a:xfrm>
                <a:off x="6824880" y="198900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82488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82488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544160" y="2709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544160" y="342864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38488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8488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10416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10416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2488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544160" y="4149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8488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0416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104160" y="486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rot="16200000">
              <a:off x="7456680" y="3517560"/>
              <a:ext cx="2158920" cy="539640"/>
            </a:xfrm>
            <a:custGeom>
              <a:avLst/>
              <a:gdLst>
                <a:gd name="textAreaLeft" fmla="*/ 474840 w 2158920"/>
                <a:gd name="textAreaRight" fmla="*/ 1684080 w 215892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7455600" y="207864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6160320" y="207864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5439600" y="495828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6734880" y="495828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928880" y="3789360"/>
            <a:ext cx="4316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8880" y="5229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Templates (3 of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065240" y="765000"/>
            <a:ext cx="3421080" cy="3600000"/>
            <a:chOff x="1065240" y="765000"/>
            <a:chExt cx="3421080" cy="3600000"/>
          </a:xfrm>
        </p:grpSpPr>
        <p:grpSp>
          <p:nvGrpSpPr>
            <p:cNvPr id="183" name=""/>
            <p:cNvGrpSpPr/>
            <p:nvPr/>
          </p:nvGrpSpPr>
          <p:grpSpPr>
            <a:xfrm>
              <a:off x="1065240" y="765000"/>
              <a:ext cx="2878200" cy="3600000"/>
              <a:chOff x="1065240" y="765000"/>
              <a:chExt cx="2878200" cy="3600000"/>
            </a:xfrm>
          </p:grpSpPr>
          <p:sp>
            <p:nvSpPr>
              <p:cNvPr id="184" name=""/>
              <p:cNvSpPr/>
              <p:nvPr/>
            </p:nvSpPr>
            <p:spPr>
              <a:xfrm>
                <a:off x="2505240" y="76500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0524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0524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24520" y="1485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24520" y="220464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6524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6524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78452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78452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50524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24520" y="2925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524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8452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84520" y="364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rot="16200000">
              <a:off x="3137040" y="2293560"/>
              <a:ext cx="2158920" cy="539640"/>
            </a:xfrm>
            <a:custGeom>
              <a:avLst/>
              <a:gdLst>
                <a:gd name="textAreaLeft" fmla="*/ 474840 w 2158920"/>
                <a:gd name="textAreaRight" fmla="*/ 1684080 w 215892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3135960" y="85464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1840680" y="85464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1119960" y="373428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200000">
              <a:off x="2415240" y="373428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84880" y="1989000"/>
            <a:ext cx="3421080" cy="3600000"/>
            <a:chOff x="5384880" y="1989000"/>
            <a:chExt cx="3421080" cy="3600000"/>
          </a:xfrm>
        </p:grpSpPr>
        <p:grpSp>
          <p:nvGrpSpPr>
            <p:cNvPr id="204" name=""/>
            <p:cNvGrpSpPr/>
            <p:nvPr/>
          </p:nvGrpSpPr>
          <p:grpSpPr>
            <a:xfrm>
              <a:off x="5384880" y="1989000"/>
              <a:ext cx="2878200" cy="3600000"/>
              <a:chOff x="5384880" y="1989000"/>
              <a:chExt cx="2878200" cy="3600000"/>
            </a:xfrm>
          </p:grpSpPr>
          <p:sp>
            <p:nvSpPr>
              <p:cNvPr id="205" name=""/>
              <p:cNvSpPr/>
              <p:nvPr/>
            </p:nvSpPr>
            <p:spPr>
              <a:xfrm>
                <a:off x="6824880" y="198900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82488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82488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544160" y="2709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544160" y="342864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8488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8488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10416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0416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2488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44160" y="4149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8488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10416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104160" y="486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 rot="16200000">
              <a:off x="7456680" y="3517560"/>
              <a:ext cx="2158920" cy="539640"/>
            </a:xfrm>
            <a:custGeom>
              <a:avLst/>
              <a:gdLst>
                <a:gd name="textAreaLeft" fmla="*/ 474840 w 2158920"/>
                <a:gd name="textAreaRight" fmla="*/ 1684080 w 215892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7455600" y="207864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5400000">
              <a:off x="6160320" y="207864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0">
              <a:off x="5439600" y="495828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6734880" y="495828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928880" y="1628640"/>
            <a:ext cx="4316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1628640"/>
            <a:ext cx="4316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49600" y="907920"/>
            <a:ext cx="4316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69240" y="3573360"/>
            <a:ext cx="4316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8880" y="5229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Templates (4 of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065240" y="765000"/>
            <a:ext cx="3421080" cy="3600000"/>
            <a:chOff x="1065240" y="765000"/>
            <a:chExt cx="3421080" cy="3600000"/>
          </a:xfrm>
        </p:grpSpPr>
        <p:grpSp>
          <p:nvGrpSpPr>
            <p:cNvPr id="230" name=""/>
            <p:cNvGrpSpPr/>
            <p:nvPr/>
          </p:nvGrpSpPr>
          <p:grpSpPr>
            <a:xfrm>
              <a:off x="1065240" y="765000"/>
              <a:ext cx="2878200" cy="3600000"/>
              <a:chOff x="1065240" y="765000"/>
              <a:chExt cx="2878200" cy="3600000"/>
            </a:xfrm>
          </p:grpSpPr>
          <p:sp>
            <p:nvSpPr>
              <p:cNvPr id="231" name=""/>
              <p:cNvSpPr/>
              <p:nvPr/>
            </p:nvSpPr>
            <p:spPr>
              <a:xfrm>
                <a:off x="2505240" y="76500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0524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0524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24520" y="1485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24520" y="220464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524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6524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8452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78452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0524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24520" y="2925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6524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8452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84520" y="364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 rot="16200000">
              <a:off x="3137040" y="2293560"/>
              <a:ext cx="2158920" cy="539640"/>
            </a:xfrm>
            <a:custGeom>
              <a:avLst/>
              <a:gdLst>
                <a:gd name="textAreaLeft" fmla="*/ 474840 w 2158920"/>
                <a:gd name="textAreaRight" fmla="*/ 1684080 w 215892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6200000">
              <a:off x="3135960" y="85464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1840680" y="85464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00000">
              <a:off x="1119960" y="373428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2415240" y="373428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84880" y="1989000"/>
            <a:ext cx="3421080" cy="3600000"/>
            <a:chOff x="5384880" y="1989000"/>
            <a:chExt cx="3421080" cy="3600000"/>
          </a:xfrm>
        </p:grpSpPr>
        <p:grpSp>
          <p:nvGrpSpPr>
            <p:cNvPr id="251" name=""/>
            <p:cNvGrpSpPr/>
            <p:nvPr/>
          </p:nvGrpSpPr>
          <p:grpSpPr>
            <a:xfrm>
              <a:off x="5384880" y="1989000"/>
              <a:ext cx="2878200" cy="3600000"/>
              <a:chOff x="5384880" y="1989000"/>
              <a:chExt cx="2878200" cy="3600000"/>
            </a:xfrm>
          </p:grpSpPr>
          <p:sp>
            <p:nvSpPr>
              <p:cNvPr id="252" name=""/>
              <p:cNvSpPr/>
              <p:nvPr/>
            </p:nvSpPr>
            <p:spPr>
              <a:xfrm>
                <a:off x="6824880" y="198900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2488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2488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44160" y="2709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544160" y="342864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8488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8488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10416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10416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82488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44160" y="4149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8488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0416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04160" y="486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 rot="16200000">
              <a:off x="7456680" y="3517560"/>
              <a:ext cx="2158920" cy="539640"/>
            </a:xfrm>
            <a:custGeom>
              <a:avLst/>
              <a:gdLst>
                <a:gd name="textAreaLeft" fmla="*/ 474840 w 2158920"/>
                <a:gd name="textAreaRight" fmla="*/ 1684080 w 215892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7455600" y="207864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5400000">
              <a:off x="6160320" y="207864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5439600" y="495828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6734880" y="495828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928880" y="3068640"/>
            <a:ext cx="4316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49600" y="3068640"/>
            <a:ext cx="4316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49600" y="1628640"/>
            <a:ext cx="4316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49600" y="907920"/>
            <a:ext cx="4316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69240" y="2133720"/>
            <a:ext cx="4316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69240" y="3573360"/>
            <a:ext cx="4316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880" y="5229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Templates (5 of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1065240" y="765000"/>
            <a:ext cx="3421080" cy="3600000"/>
            <a:chOff x="1065240" y="765000"/>
            <a:chExt cx="3421080" cy="3600000"/>
          </a:xfrm>
        </p:grpSpPr>
        <p:grpSp>
          <p:nvGrpSpPr>
            <p:cNvPr id="279" name=""/>
            <p:cNvGrpSpPr/>
            <p:nvPr/>
          </p:nvGrpSpPr>
          <p:grpSpPr>
            <a:xfrm>
              <a:off x="1065240" y="765000"/>
              <a:ext cx="2878200" cy="3600000"/>
              <a:chOff x="1065240" y="765000"/>
              <a:chExt cx="2878200" cy="3600000"/>
            </a:xfrm>
          </p:grpSpPr>
          <p:sp>
            <p:nvSpPr>
              <p:cNvPr id="280" name=""/>
              <p:cNvSpPr/>
              <p:nvPr/>
            </p:nvSpPr>
            <p:spPr>
              <a:xfrm>
                <a:off x="2505240" y="76500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0524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0524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24520" y="1485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224520" y="220464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06524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06524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84520" y="148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784520" y="220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50524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24520" y="2925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6524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784520" y="2925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84520" y="3644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 rot="16200000">
              <a:off x="3137040" y="2293560"/>
              <a:ext cx="2158920" cy="539640"/>
            </a:xfrm>
            <a:custGeom>
              <a:avLst/>
              <a:gdLst>
                <a:gd name="textAreaLeft" fmla="*/ 474840 w 2158920"/>
                <a:gd name="textAreaRight" fmla="*/ 1684080 w 215892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6200000">
              <a:off x="3135960" y="85464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400000">
              <a:off x="1840680" y="85464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1119960" y="373428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200000">
              <a:off x="2415240" y="373428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384880" y="1989000"/>
            <a:ext cx="3421080" cy="3600000"/>
            <a:chOff x="5384880" y="1989000"/>
            <a:chExt cx="3421080" cy="3600000"/>
          </a:xfrm>
        </p:grpSpPr>
        <p:grpSp>
          <p:nvGrpSpPr>
            <p:cNvPr id="300" name=""/>
            <p:cNvGrpSpPr/>
            <p:nvPr/>
          </p:nvGrpSpPr>
          <p:grpSpPr>
            <a:xfrm>
              <a:off x="5384880" y="1989000"/>
              <a:ext cx="2878200" cy="3600000"/>
              <a:chOff x="5384880" y="1989000"/>
              <a:chExt cx="2878200" cy="3600000"/>
            </a:xfrm>
          </p:grpSpPr>
          <p:sp>
            <p:nvSpPr>
              <p:cNvPr id="301" name=""/>
              <p:cNvSpPr/>
              <p:nvPr/>
            </p:nvSpPr>
            <p:spPr>
              <a:xfrm>
                <a:off x="6824880" y="198900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82488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2488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544160" y="2709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44160" y="342864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38488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8488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104160" y="270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104160" y="342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2488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44160" y="4149360"/>
                <a:ext cx="71892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38488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04160" y="414936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104160" y="4868640"/>
                <a:ext cx="719280" cy="72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rot="16200000">
              <a:off x="7456680" y="3517560"/>
              <a:ext cx="2158920" cy="539640"/>
            </a:xfrm>
            <a:custGeom>
              <a:avLst/>
              <a:gdLst>
                <a:gd name="textAreaLeft" fmla="*/ 474840 w 2158920"/>
                <a:gd name="textAreaRight" fmla="*/ 1684080 w 215892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7455600" y="207864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6160320" y="207864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5400000">
              <a:off x="5439600" y="4958280"/>
              <a:ext cx="719280" cy="54000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800 h 540000"/>
                <a:gd name="textAreaBottom" fmla="*/ 421200 h 5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34880" y="4958280"/>
              <a:ext cx="719280" cy="539640"/>
            </a:xfrm>
            <a:custGeom>
              <a:avLst/>
              <a:gdLst>
                <a:gd name="textAreaLeft" fmla="*/ 158040 w 719280"/>
                <a:gd name="textAreaRight" fmla="*/ 561240 w 71928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136520" y="522936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nk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415800" y="333360"/>
            <a:ext cx="4321080" cy="5760720"/>
            <a:chOff x="415800" y="333360"/>
            <a:chExt cx="4321080" cy="5760720"/>
          </a:xfrm>
        </p:grpSpPr>
        <p:sp>
          <p:nvSpPr>
            <p:cNvPr id="322" name=""/>
            <p:cNvSpPr/>
            <p:nvPr/>
          </p:nvSpPr>
          <p:spPr>
            <a:xfrm rot="16200000">
              <a:off x="1857600" y="56152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1857600" y="51364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1857600" y="465480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2336400" y="56152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2336400" y="51364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6200000">
              <a:off x="2336400" y="465480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2818440" y="56152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6200000">
              <a:off x="2818440" y="51364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6200000">
              <a:off x="2818440" y="465480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1857600" y="41734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6200000">
              <a:off x="1857240" y="3694320"/>
              <a:ext cx="47916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200000">
              <a:off x="1857600" y="32126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6200000">
              <a:off x="2336400" y="41734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6200000">
              <a:off x="2336040" y="3694320"/>
              <a:ext cx="47916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6200000">
              <a:off x="2336400" y="32126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6200000">
              <a:off x="2818440" y="41734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2818080" y="3694320"/>
              <a:ext cx="47916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0000">
              <a:off x="2818440" y="32126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1857600" y="27338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1857600" y="22550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1857600" y="177300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2336400" y="27338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6200000">
              <a:off x="2336400" y="22550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2336400" y="177300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6200000">
              <a:off x="2818440" y="27338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2818440" y="22550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2818440" y="177300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6200000">
              <a:off x="1857600" y="129420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6200000">
              <a:off x="1857600" y="81540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200000">
              <a:off x="1857600" y="33336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6200000">
              <a:off x="2336400" y="129420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200000">
              <a:off x="2336400" y="81540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200000">
              <a:off x="2336400" y="33336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2818440" y="129420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00000">
              <a:off x="2818440" y="81540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2818440" y="33336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415800" y="41734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415440" y="3694320"/>
              <a:ext cx="47916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415800" y="32126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6200000">
              <a:off x="894600" y="41734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894240" y="3694320"/>
              <a:ext cx="47916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894600" y="32126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1376280" y="41734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6200000">
              <a:off x="1375920" y="3694320"/>
              <a:ext cx="47916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6200000">
              <a:off x="1376280" y="32126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6200000">
              <a:off x="3297240" y="27338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6200000">
              <a:off x="3297240" y="22550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6200000">
              <a:off x="3297240" y="177300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6200000">
              <a:off x="3776040" y="27338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3776040" y="22550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3776040" y="177300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6200000">
              <a:off x="4258080" y="27338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6200000">
              <a:off x="4258080" y="22550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6200000">
              <a:off x="4258080" y="177300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6200000">
              <a:off x="1857600" y="4654800"/>
              <a:ext cx="1439280" cy="143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200000">
              <a:off x="1857600" y="3215520"/>
              <a:ext cx="1439280" cy="143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6200000">
              <a:off x="417960" y="3215520"/>
              <a:ext cx="1439280" cy="143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1857600" y="1773360"/>
              <a:ext cx="1439280" cy="143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3297240" y="1773360"/>
              <a:ext cx="1439280" cy="143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200000">
              <a:off x="1857600" y="333720"/>
              <a:ext cx="1439280" cy="143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097600" y="836640"/>
            <a:ext cx="4320720" cy="5760720"/>
            <a:chOff x="5097600" y="836640"/>
            <a:chExt cx="4320720" cy="5760720"/>
          </a:xfrm>
        </p:grpSpPr>
        <p:sp>
          <p:nvSpPr>
            <p:cNvPr id="383" name=""/>
            <p:cNvSpPr/>
            <p:nvPr/>
          </p:nvSpPr>
          <p:spPr>
            <a:xfrm rot="16200000">
              <a:off x="6539400" y="611856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6539400" y="563976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539400" y="51580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7018200" y="611856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6200000">
              <a:off x="7018200" y="563976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7018200" y="51580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7499880" y="611856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6200000">
              <a:off x="7499880" y="563976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7499880" y="51580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200000">
              <a:off x="6539400" y="467676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6200000">
              <a:off x="6539040" y="4197600"/>
              <a:ext cx="47916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6200000">
              <a:off x="6539400" y="37159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7018200" y="467676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6200000">
              <a:off x="7017840" y="4197600"/>
              <a:ext cx="47916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7018200" y="37159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6200000">
              <a:off x="7499880" y="467676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6200000">
              <a:off x="7499520" y="4197600"/>
              <a:ext cx="47916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7499880" y="37159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6200000">
              <a:off x="6539400" y="32371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6200000">
              <a:off x="6539400" y="27583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6200000">
              <a:off x="6539400" y="22762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6200000">
              <a:off x="7018200" y="32371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6200000">
              <a:off x="7018200" y="27583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6200000">
              <a:off x="7018200" y="22762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6200000">
              <a:off x="7499880" y="32371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6200000">
              <a:off x="7499880" y="27583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6200000">
              <a:off x="7499880" y="22762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6200000">
              <a:off x="6539400" y="17974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200000">
              <a:off x="6539400" y="13186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6200000">
              <a:off x="6539400" y="8366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6200000">
              <a:off x="7018200" y="17974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6200000">
              <a:off x="7018200" y="13186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6200000">
              <a:off x="7018200" y="8366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7499880" y="17974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6200000">
              <a:off x="7499880" y="13186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6200000">
              <a:off x="7499880" y="83664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6200000">
              <a:off x="5097600" y="467676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6200000">
              <a:off x="5097240" y="4197600"/>
              <a:ext cx="47916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6200000">
              <a:off x="5097600" y="37159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6200000">
              <a:off x="5576400" y="467676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6200000">
              <a:off x="5576040" y="4197600"/>
              <a:ext cx="47916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6200000">
              <a:off x="5576400" y="37159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6058080" y="467676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6057720" y="4197600"/>
              <a:ext cx="47916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6058080" y="37159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978680" y="32371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7978680" y="27583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6200000">
              <a:off x="7978680" y="22762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8457480" y="32371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8457480" y="27583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6200000">
              <a:off x="8457480" y="22762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6200000">
              <a:off x="8939520" y="32371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6200000">
              <a:off x="8939520" y="275832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6200000">
              <a:off x="8939520" y="2276280"/>
              <a:ext cx="478800" cy="47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6200000">
              <a:off x="6539400" y="5158080"/>
              <a:ext cx="1439280" cy="143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6200000">
              <a:off x="6539400" y="3718800"/>
              <a:ext cx="1439280" cy="143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6200000">
              <a:off x="5099760" y="3718800"/>
              <a:ext cx="1439280" cy="143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6200000">
              <a:off x="6539400" y="2276640"/>
              <a:ext cx="1439280" cy="143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6200000">
              <a:off x="7978680" y="2276640"/>
              <a:ext cx="1439280" cy="143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6200000">
              <a:off x="6539400" y="837000"/>
              <a:ext cx="1439280" cy="143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2865600" y="1341360"/>
            <a:ext cx="5976720" cy="5184720"/>
            <a:chOff x="2865600" y="1341360"/>
            <a:chExt cx="5976720" cy="5184720"/>
          </a:xfrm>
        </p:grpSpPr>
        <p:sp>
          <p:nvSpPr>
            <p:cNvPr id="444" name=""/>
            <p:cNvSpPr/>
            <p:nvPr/>
          </p:nvSpPr>
          <p:spPr>
            <a:xfrm>
              <a:off x="2865600" y="1341360"/>
              <a:ext cx="5976720" cy="172728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5400000">
              <a:off x="2216880" y="2853360"/>
              <a:ext cx="4321080" cy="3024000"/>
            </a:xfrm>
            <a:prstGeom prst="parallelogram">
              <a:avLst>
                <a:gd name="adj" fmla="val 290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rot="16200000">
              <a:off x="5204160" y="2889360"/>
              <a:ext cx="4321080" cy="2952360"/>
            </a:xfrm>
            <a:prstGeom prst="parallelogram">
              <a:avLst>
                <a:gd name="adj" fmla="val 2908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905600" y="2493720"/>
              <a:ext cx="0" cy="34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881240" y="1917720"/>
              <a:ext cx="2952720" cy="86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3873240" y="1917360"/>
              <a:ext cx="302400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4881240" y="1628280"/>
              <a:ext cx="302400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2865600" y="3285720"/>
              <a:ext cx="302400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2865600" y="4436640"/>
              <a:ext cx="302400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3801960" y="1628280"/>
              <a:ext cx="295236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889600" y="3286080"/>
              <a:ext cx="2952360" cy="86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889600" y="4437000"/>
              <a:ext cx="2952360" cy="86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897600" y="2781360"/>
              <a:ext cx="0" cy="34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4881240" y="2781360"/>
              <a:ext cx="0" cy="34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3801960" y="2493720"/>
              <a:ext cx="0" cy="34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9" name="" descr=""/>
          <p:cNvPicPr/>
          <p:nvPr/>
        </p:nvPicPr>
        <p:blipFill>
          <a:blip r:embed="rId1"/>
          <a:srcRect l="16794" t="4602" r="17921" b="28973"/>
          <a:stretch/>
        </p:blipFill>
        <p:spPr>
          <a:xfrm>
            <a:off x="415800" y="476280"/>
            <a:ext cx="191448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20:53:28Z</dcterms:created>
  <dc:creator>OEM Preinstalled User</dc:creator>
  <dc:description/>
  <dc:language>en-US</dc:language>
  <cp:lastModifiedBy>OEM Preinstalled User</cp:lastModifiedBy>
  <dcterms:modified xsi:type="dcterms:W3CDTF">2005-12-01T19:49:54Z</dcterms:modified>
  <cp:revision>3</cp:revision>
  <dc:subject/>
  <dc:title>Slide 1</dc:title>
</cp:coreProperties>
</file>