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1D1-85ED-4A6F-B4B7-3E0C38F8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476-3C02-46FF-8088-BF9587DB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DFF-CF68-4027-8202-567D9C1D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0E4-CF9D-456D-AA23-4A481FA8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031-6932-4334-BA8A-060261FF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98-F5C0-4275-8C78-B7A3560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E00-4A58-4DB3-85DB-9BD5D525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C91-26B8-4951-A631-5DC0C11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9F4-FAD0-44BB-8074-140AB6E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A8-CDAC-4323-B7B2-CA9C78A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3A8-1ECA-4473-9B23-D43E701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139-6BD0-48BF-B8F0-39F2DFC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9CF-8E8D-44AF-B5A2-88EC8BDB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219320"/>
            <a:ext cx="4317840" cy="431784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990720"/>
            <a:ext cx="6400800" cy="396216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600200"/>
            <a:ext cx="8076960" cy="3276720"/>
          </a:xfrm>
          <a:prstGeom prst="parallelogram">
            <a:avLst>
              <a:gd name="adj" fmla="val -63648"/>
            </a:avLst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523880"/>
            <a:ext cx="7238880" cy="3276720"/>
          </a:xfrm>
          <a:custGeom>
            <a:avLst/>
            <a:gdLst>
              <a:gd name="textAreaLeft" fmla="*/ 1429200 w 7238880"/>
              <a:gd name="textAreaRight" fmla="*/ 5809680 w 7238880"/>
              <a:gd name="textAreaTop" fmla="*/ 646920 h 3276720"/>
              <a:gd name="textAreaBottom" fmla="*/ 26298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074" y="21600"/>
                </a:lnTo>
                <a:lnTo>
                  <a:pt x="4526" y="21600"/>
                </a:lnTo>
                <a:close/>
              </a:path>
            </a:pathLst>
          </a:cu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1447920"/>
            <a:ext cx="7391520" cy="4076640"/>
          </a:xfrm>
          <a:prstGeom prst="flowChartManualInpu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1143000"/>
            <a:ext cx="7848360" cy="4343400"/>
          </a:xfrm>
          <a:prstGeom prst="diamond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81680" y="762120"/>
            <a:ext cx="2133720" cy="259056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705720" y="3352320"/>
            <a:ext cx="2133360" cy="259092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85800" y="761760"/>
            <a:ext cx="6095880" cy="251460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8040" y="3350520"/>
            <a:ext cx="6095880" cy="251460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36:47Z</dcterms:created>
  <dc:creator>Colman</dc:creator>
  <dc:description/>
  <dc:language>en-US</dc:language>
  <cp:lastModifiedBy>OEM Preinstalled User</cp:lastModifiedBy>
  <cp:lastPrinted>2003-01-08T16:32:42Z</cp:lastPrinted>
  <dcterms:modified xsi:type="dcterms:W3CDTF">2006-12-06T14:57:22Z</dcterms:modified>
  <cp:revision>9</cp:revision>
  <dc:subject/>
  <dc:title>No Slide Title</dc:title>
</cp:coreProperties>
</file>