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72C-4F88-4157-92F4-D1193C5A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E7E-CD65-4C37-90AC-9E4EF8C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F7C-6BC7-4570-A6AF-5290BD45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5A9-E6DE-4430-BE7C-284CC74D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9FE-9158-4896-977B-8CA9B55C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544-D587-4818-AB18-AA5F134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298-FFC2-4138-9BDD-9AAF191D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F18-BB4B-4ACE-8056-189D476D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C3C-9A1C-4E37-B57D-1840918F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1E2-CA47-4B03-910B-CDD70479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9FD-7A1F-4646-A453-8F4BB50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579-F491-4A12-847E-946D3C1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EC65-4745-436E-9571-47A4792F2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2880" y="549360"/>
            <a:ext cx="9356760" cy="467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8520" y="544500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2880" y="549360"/>
            <a:ext cx="9356760" cy="467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8520" y="544500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2880" y="549360"/>
            <a:ext cx="9356760" cy="4678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8520" y="544500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2880" y="549360"/>
            <a:ext cx="9356760" cy="467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8520" y="544500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2880" y="549360"/>
            <a:ext cx="9356760" cy="467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8520" y="544500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8:55:41Z</dcterms:created>
  <dc:creator>colmangr.staff</dc:creator>
  <dc:description/>
  <dc:language>en-US</dc:language>
  <cp:lastModifiedBy>colmangr.staff</cp:lastModifiedBy>
  <dcterms:modified xsi:type="dcterms:W3CDTF">2009-04-22T09:01:51Z</dcterms:modified>
  <cp:revision>1</cp:revision>
  <dc:subject/>
  <dc:title>Slide 1</dc:title>
</cp:coreProperties>
</file>